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6E4-5A05-4244-8F15-3F5135AC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10B-ABBC-4BF2-800B-8694376C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F63-03E6-4B8F-BFB6-7D99F4B6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E15-686F-45D5-A68E-64DCED63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753-2CAC-4DDF-9B79-1E7D004D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069-5546-4A3A-BD60-B27C6D04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406-EF8C-4BBF-A173-7E9B6AF8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2BE-D14E-4981-AAD8-BD83B1D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B20-B26C-4F5A-A70B-EE726A9A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D93-DCA1-4D59-856F-F03C92DF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2E1-7640-4135-AE8E-51CF3574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02C-E3AB-4318-AA26-1DA95004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D05C-5EDC-48D4-BB39-0263CBF03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9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25.xml"/><Relationship Id="rId17" Type="http://schemas.openxmlformats.org/officeDocument/2006/relationships/slide" Target="slide30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slide" Target="slide26.xml"/><Relationship Id="rId22" Type="http://schemas.openxmlformats.org/officeDocument/2006/relationships/slide" Target="slide31.xml"/><Relationship Id="rId23" Type="http://schemas.openxmlformats.org/officeDocument/2006/relationships/slide" Target="slide12.xml"/><Relationship Id="rId24" Type="http://schemas.openxmlformats.org/officeDocument/2006/relationships/slide" Target="slide17.xml"/><Relationship Id="rId25" Type="http://schemas.openxmlformats.org/officeDocument/2006/relationships/slide" Target="slide22.xml"/><Relationship Id="rId26" Type="http://schemas.openxmlformats.org/officeDocument/2006/relationships/slide" Target="slide27.xml"/><Relationship Id="rId27" Type="http://schemas.openxmlformats.org/officeDocument/2006/relationships/slide" Target="slide32.xml"/><Relationship Id="rId28" Type="http://schemas.openxmlformats.org/officeDocument/2006/relationships/slide" Target="slide13.xml"/><Relationship Id="rId29" Type="http://schemas.openxmlformats.org/officeDocument/2006/relationships/slide" Target="slide18.xml"/><Relationship Id="rId30" Type="http://schemas.openxmlformats.org/officeDocument/2006/relationships/slide" Target="slide23.xml"/><Relationship Id="rId31" Type="http://schemas.openxmlformats.org/officeDocument/2006/relationships/slide" Target="slide28.xml"/><Relationship Id="rId32" Type="http://schemas.openxmlformats.org/officeDocument/2006/relationships/slide" Target="slide33.xml"/><Relationship Id="rId3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380880"/>
            <a:ext cx="6477120" cy="247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5560">
                  <a:solidFill>
                    <a:srgbClr val="000000"/>
                  </a:solidFill>
                  <a:miter/>
                </a:ln>
                <a:noFill/>
                <a:latin typeface="Poor Richard"/>
              </a:rPr>
              <a:t>Tuck Trivia!</a:t>
            </a:r>
            <a:endParaRPr b="0" lang="en-US" sz="4400" spc="1" strike="noStrike">
              <a:ln w="25560">
                <a:solidFill>
                  <a:srgbClr val="000000"/>
                </a:solidFill>
                <a:miter/>
              </a:ln>
              <a:noFill/>
              <a:latin typeface="Poor Richard"/>
              <a:ea typeface="Poor Richard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long has it been since Angus Tuck last changed in appearanc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7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Angus carve into the side of the tree with the sp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es Angus make sure that the Tucks are going to live fore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572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hoots himself with hi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uck say at the end of the story to the toad, that was iron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n thing must think it’s go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to live forev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piece of jewelry does Mae wear when she leaves to meet Miles and Jes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roo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ae own that makes a song/no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usic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ae hit the stranger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us Tuck’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does the constable say that Mae might d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llo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a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Mae think about living forever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42670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thinks that what’s done is done, and that there’s no use fussing over 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Miles normally work 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lack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762120"/>
            <a:ext cx="5486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based on the book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29528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uck Everlasting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47920" y="1905120"/>
            <a:ext cx="55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by Natalie Babbit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5715000"/>
            <a:ext cx="899172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his game was created by Sal DeFrancesc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3880" y="22860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This game i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 ______ years Miles and Jesse come back ho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oes Miles let the fish he caught swim a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let it go because Winnie didn’t want to see the fish d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id Miles’s family leave him and how many children did he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41911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left because Miles wasn’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ing in appearance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he had two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Mile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ound does Miles use to cover up the noise of the b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excuse does Jesse use to make sure that Winnie didn’t drink the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380988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aid that since the water came up from the ground, it was probably dirty and bad for your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1676520"/>
            <a:ext cx="601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old is Jesse when he meets Winnie? (Hint: Both ages. The age he’s stuck at and the age he would be if he didn’t drink the wate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ck: 17                               Didn’t Drink Water: 1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1676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Jesse fall in lov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nie F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what age does Jesse want Winnie to drink the bottle of special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Jesse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happened to Jesse that would have broken his neck, but didn’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fell out of a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he stranger’s appearance remind Winnie abou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bbons at her grandpa’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175248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innie Fos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Tuck Everlasting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9907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9907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91720" y="990720"/>
            <a:ext cx="152280" cy="586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17524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gus T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19520"/>
            <a:ext cx="1752480" cy="97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ae Tuc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9880"/>
            <a:ext cx="17524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les Tu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800600"/>
            <a:ext cx="17524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842080"/>
            <a:ext cx="17524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Stran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791320"/>
            <a:ext cx="17524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8006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733920"/>
            <a:ext cx="17524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7432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8800"/>
            <a:ext cx="1752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9051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8195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80988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487692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867280"/>
            <a:ext cx="14475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9051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28195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38098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487692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5867280"/>
            <a:ext cx="14479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32" action="ppaction://hlinksldjump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name of the type of deal that the stranger made with the Fos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ackma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the stranger get hit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us Tuck’s Shot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s the stranger related to Miles wife and ki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572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ranger’s grandmother was friends with Mile’s 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The Strang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 stranger plan to do with the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l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 rot="20461200">
            <a:off x="272880" y="1803240"/>
            <a:ext cx="8848800" cy="339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7175e"/>
                    </a:gs>
                  </a:gsLst>
                  <a:path path="rect">
                    <a:fillToRect l="50000" t="50000" r="50000" b="50000"/>
                  </a:path>
                </a:gradFill>
                <a:latin typeface="Poor Richard"/>
              </a:rPr>
              <a:t>Thank You For Playing Tuck Trivia!</a:t>
            </a:r>
            <a:endParaRPr b="0" lang="en-US" sz="4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17175e"/>
                  </a:gs>
                </a:gsLst>
                <a:path path="rect">
                  <a:fillToRect l="50000" t="50000" r="50000" b="50000"/>
                </a:path>
              </a:gradFill>
              <a:latin typeface="Poor Richard"/>
              <a:ea typeface="Poor Richard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324480" y="2362320"/>
            <a:ext cx="2590920" cy="12952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Winnie see in the clearing, next to a t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7315200" y="548640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old is Winnie when she meets the Tu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7315200" y="548640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oes Winnie begin to fall in lov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e T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676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Winnie do with the bottle of special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pours it onto the t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Winnie Foste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167652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Angus and Mae go back to Treegap, how long had it been since Winnie had died?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(Hint: In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7315200" y="5479920"/>
            <a:ext cx="1828800" cy="1371600"/>
          </a:xfrm>
          <a:custGeom>
            <a:avLst/>
            <a:gdLst>
              <a:gd name="textAreaLeft" fmla="*/ 88560 w 1828800"/>
              <a:gd name="textAreaRight" fmla="*/ 1740240 w 18288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8798" h="21600">
                <a:moveTo>
                  <a:pt x="0" y="0"/>
                </a:moveTo>
                <a:lnTo>
                  <a:pt x="28798" y="0"/>
                </a:lnTo>
                <a:lnTo>
                  <a:pt x="28798" y="21600"/>
                </a:lnTo>
                <a:lnTo>
                  <a:pt x="0" y="21600"/>
                </a:lnTo>
                <a:close/>
              </a:path>
              <a:path fill="lightenLess" w="28798" h="21600">
                <a:moveTo>
                  <a:pt x="0" y="0"/>
                </a:moveTo>
                <a:lnTo>
                  <a:pt x="28798" y="0"/>
                </a:lnTo>
                <a:lnTo>
                  <a:pt x="27398" y="1400"/>
                </a:lnTo>
                <a:lnTo>
                  <a:pt x="1400" y="1400"/>
                </a:lnTo>
                <a:close/>
              </a:path>
              <a:path fill="darken" w="28798" h="21600">
                <a:moveTo>
                  <a:pt x="28798" y="0"/>
                </a:moveTo>
                <a:lnTo>
                  <a:pt x="28798" y="21600"/>
                </a:lnTo>
                <a:lnTo>
                  <a:pt x="27398" y="20200"/>
                </a:lnTo>
                <a:lnTo>
                  <a:pt x="27398" y="1400"/>
                </a:lnTo>
                <a:close/>
              </a:path>
              <a:path fill="darkenLess" w="28798" h="21600">
                <a:moveTo>
                  <a:pt x="2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8" y="20200"/>
                </a:lnTo>
                <a:close/>
              </a:path>
              <a:path fill="lighten" w="2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Angus Tuck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57150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16765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one word that describes Angus Tuck the most?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Hint: Synonym of S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572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5791320"/>
            <a:ext cx="1371600" cy="8380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21:25:31Z</dcterms:created>
  <dc:creator> </dc:creator>
  <dc:description/>
  <dc:language>en-US</dc:language>
  <cp:lastModifiedBy>Elizabeth</cp:lastModifiedBy>
  <dcterms:modified xsi:type="dcterms:W3CDTF">2010-01-02T20:32:45Z</dcterms:modified>
  <cp:revision>23</cp:revision>
  <dc:subject/>
  <dc:title>PowerPoint Presentation</dc:title>
</cp:coreProperties>
</file>